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195A-6454-43F1-A8EB-09E0B345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AF0F-C7C9-452C-984B-479FBE23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540-C801-4E74-A593-BC5E2116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D293-7285-443D-99F7-B7DA4108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BE6-F15C-45FF-9528-CBAFCEE7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91A-53E3-4F27-A053-C9687765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653B-0363-4D16-89B5-96DDF8CC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F581-3203-4B39-863A-252EC956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03A-8EA5-47CA-A286-FEEFF3DB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0E4-B754-43F9-BD08-195C25FE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966-F970-4738-9C73-DB441DBB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5D8D-97EA-40F1-8A94-02A1022C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A1A8-0E38-40BA-8B2E-BD226FD2D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981080" y="380880"/>
            <a:ext cx="5486400" cy="13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9080">
                  <a:solidFill>
                    <a:srgbClr val="33cc33"/>
                  </a:solidFill>
                  <a:custDash>
                    <a:ds d="100000" sp="1000"/>
                  </a:custDash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e Play in the Dirt</a:t>
            </a:r>
            <a:endParaRPr b="0" lang="en-US" sz="1800" spc="1" strike="noStrike">
              <a:ln cap="rnd" w="19080">
                <a:solidFill>
                  <a:srgbClr val="33cc33"/>
                </a:solidFill>
                <a:custDash>
                  <a:ds d="100000" sp="1000"/>
                </a:custDash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 rot="19934400">
            <a:off x="0" y="4419360"/>
            <a:ext cx="3276720" cy="2438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Op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38280" y="2286000"/>
            <a:ext cx="42102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ide the New 2.5-Mil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untain Bike Trail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terans' Park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4419360" cy="3200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85800" y="0"/>
            <a:ext cx="80010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ave Fun But Not 2 Much...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rot="21096600">
            <a:off x="304920" y="3200040"/>
            <a:ext cx="7543800" cy="3657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 rot="21010800">
            <a:off x="761760" y="380520"/>
            <a:ext cx="7162560" cy="293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There are also rul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that apply fr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preventing A SERIOUS accident!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00200" y="3657600"/>
            <a:ext cx="6858000" cy="2133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523880" y="2438280"/>
            <a:ext cx="59151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 PLAYING around!!!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457200" y="990720"/>
            <a:ext cx="86104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CAUTION!!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3886200"/>
            <a:ext cx="6067440" cy="1638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295280" y="1295280"/>
            <a:ext cx="6858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ake off at normal speed.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14400" y="380880"/>
            <a:ext cx="7162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VE FUN!!!!!!!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6:07:18Z</dcterms:created>
  <dc:creator>765892</dc:creator>
  <dc:description/>
  <dc:language>en-US</dc:language>
  <cp:lastModifiedBy>765892</cp:lastModifiedBy>
  <dcterms:modified xsi:type="dcterms:W3CDTF">2009-03-30T16:07:46Z</dcterms:modified>
  <cp:revision>3</cp:revision>
  <dc:subject/>
  <dc:title>Slide 1</dc:title>
</cp:coreProperties>
</file>